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12D-EA7A-43D7-AF2F-E89EDF3B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7F0-0C1E-41FA-84D6-12FB005D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ADE1-AD05-486C-8A58-4DA944DD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633-2FCC-41FB-BCEC-55E2E8C1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7059-307D-4224-8C04-3C23108E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DF05-7E16-495F-8712-C7A351FF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1A66-F4BE-4E38-9F37-57CBB2F9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6FA3-2907-4AD6-91F0-64072E68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0F1E-EC7D-4143-963C-533EADDB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1EB8-CC66-45DC-A8F6-D83315A3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FA49-ADBC-485D-99E8-71379F2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9B2-486D-4531-A37E-8E0A46AE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6606-8C3D-45EA-A2E3-5E084C53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D2E0-B1D9-46A0-BF55-59672769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B1E2-3938-4AC3-8F1B-8DF489CD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EEAE-8A0C-4666-BD0D-B400167D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5327-78C9-4972-ABAA-C1E357AD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473-4E9C-4797-855D-1D550B2B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29A-23E8-4B39-8E11-8023CA25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6AE-C673-4CED-8FB0-35DC798D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6A0-F51B-4CB5-AF16-7BEF4565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7A0-CB45-4475-9021-A6E59C7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D34-A7AA-41D1-9ACB-7AE119A6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6AA-0391-4415-821B-3E9CF15C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7369-D38D-4F27-94B5-3B777052C5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ACCE-CA9F-49F6-A671-7E35A43CF5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eehugger.com/lake-baikal-goldman-prize.jpg&amp;imgrefurl=http://www.treehugger.com/files/2008/11/lake-baikal-pollution-free.php&amp;usg=__2cFacaCCFadgJs2PcVDs-wTDDlc=&amp;h=315&amp;w=468&amp;sz=52&amp;hl=en&amp;start=9&amp;zoom=1&amp;um=1&amp;itbs=1&amp;tbnid=OcG-jCZnnzA_GM:&amp;tbnh=86&amp;tbnw=128&amp;prev=/images%3Fq%3Dlake%2Bbaikal%26um%3D1%26hl%3Den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 Cold W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tory 1918 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ctories became inefficient and did 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good quality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Soviet Union was more focused on making tanks and airplanes they did not care about the Russian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fore, The Russians didn’t have many household goo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-1143000"/>
            <a:ext cx="121896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ople had to wait in long lines to buy f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were not hap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eople from different ethnic groups that lived in Russia wanted to leave the Soviet Union and form their own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Cold War people went hung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late 1991 each of the 15 republics that made up the Soviet Union declared their independe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ussians were thrilled by the end of communism and the chance to enjoy free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02:01:49Z</dcterms:created>
  <dc:creator> </dc:creator>
  <dc:description/>
  <dc:language>en-US</dc:language>
  <cp:lastModifiedBy> </cp:lastModifiedBy>
  <dcterms:modified xsi:type="dcterms:W3CDTF">2010-12-16T02:34:07Z</dcterms:modified>
  <cp:revision>4</cp:revision>
  <dc:subject/>
  <dc:title>The Cold War</dc:title>
</cp:coreProperties>
</file>